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77F-7EAB-42F1-9BA6-E32729F3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A90-2C00-4134-9F3E-B14ABBF8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E10-0C09-46C3-BABA-334B678C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0E2-9641-4F1F-820C-4E9F7D2B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F5C-E439-4FD6-93F7-B8CDF162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944-1ACF-41CB-B815-1C8A468F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7A4-684A-4A3C-86CA-7316E1D1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82F-103A-4348-90FB-F885B408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5F6-77F3-45D0-A336-C53C0DEA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9D3-E5C5-41B5-A470-4D5DCBD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156-5D21-427F-B678-A44C055D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585-C8FD-4143-8E4A-8E8A9CA1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759F-B53A-4B11-80F2-E174773BE7A2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56760" y="56052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ac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Verdana"/>
              </a:rPr>
              <a:t>Copyright 2005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05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Business Communic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yp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970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e of message may be an important factor in determining the medium, content, approach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new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d new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of the above may require a different approach and a different mediu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71520" y="1717560"/>
            <a:ext cx="65772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What is the communication designed to achieve?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needs to be considered carefully to judge the best method of delivery and to judge the effectiveness of the feedback as to whether the message has been successfu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le of IC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638360"/>
            <a:ext cx="79261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Role of IC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CT has brought many advantages but also has its limita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enables speedy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can be cheap and save on costs (e.g. videoconferenc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can be expensive in hardware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can seem impers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can be ab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rrier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09640" y="1771560"/>
            <a:ext cx="78771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Barrier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thing that prevents successful communication from occur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lex and multi-laye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be technical or generated by the medium used, etc. b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 problem is human behaviour and psychology, e.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motional Interferenc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ignificant factor influencing successful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otions - anger, frustration, happiness, enthusiasm, need to be defensive, desire to be assertive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dy language – says far more about communication than we ever realis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" descr="Image of The Handshake, image jd3605-001"/>
          <p:cNvPicPr/>
          <p:nvPr/>
        </p:nvPicPr>
        <p:blipFill>
          <a:blip r:embed="rId1"/>
          <a:stretch/>
        </p:blipFill>
        <p:spPr>
          <a:xfrm>
            <a:off x="457200" y="1905120"/>
            <a:ext cx="38098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4572000"/>
            <a:ext cx="40388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An enduring image – the message this photograph was meant to send out was vital to Middle East peace – what does the body language of those in the image suggest is also being communicated to the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itle: The handshake. Copyright Getty Images, available from Education Image Gallery (http://eig.edina.ac.u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Business Communic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52560" y="1773360"/>
            <a:ext cx="531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dium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812960"/>
            <a:ext cx="745308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The Medium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the communication is to be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to select an appropriate medium for the messag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consider the needs of the sender, the nature of the receiver and the aims of the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medium can be a barrier to effective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alu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2065320"/>
            <a:ext cx="90756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Valu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st majority of problems in business are caused by ineffective communication in one form or an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sinesses essentially human focused organis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lue of good communications therefore inestim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43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o Whom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82680" y="1763640"/>
            <a:ext cx="626112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To Whom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o the communication is aimed at is an important fact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ature of the medium and the content may depend on who it is aimed 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cessity of being sensitive to the recei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communication be formal or inform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To Whom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-mail communic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 it need to adhere to normal rules of spelling, punctuation and gramm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s it appropriate to use text speak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this OK 4U or is txt 1 stp 2f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e there different rules for different situation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w do you know what the receiver expec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damage can be caused by inappropriate e-mail messag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1:19:15Z</dcterms:created>
  <dc:creator>A Ashwin</dc:creator>
  <dc:description/>
  <dc:language>en-US</dc:language>
  <cp:lastModifiedBy>AES</cp:lastModifiedBy>
  <dcterms:modified xsi:type="dcterms:W3CDTF">2009-02-10T15:49:47Z</dcterms:modified>
  <cp:revision>15</cp:revision>
  <dc:subject/>
  <dc:title>###Business Communication - PowerPoint Presentation - Full version###</dc:title>
</cp:coreProperties>
</file>